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73667"/>
        <c:axId val="65656650"/>
      </c:barChart>
      <c:catAx>
        <c:axId val="98873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56650"/>
        <c:crosses val="autoZero"/>
        <c:auto val="1"/>
        <c:lblAlgn val="ctr"/>
        <c:lblOffset val="100"/>
        <c:noMultiLvlLbl val="0"/>
      </c:catAx>
      <c:valAx>
        <c:axId val="65656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73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3BD-3B92-4F55-AAF6-1279CB25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20C-1513-4F2C-AD04-633F3F89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00EF-A51C-4069-9C84-BB65D7CE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3F3-7834-49A2-8538-6EC337B2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EA9-2266-4B1A-8A02-FDFE776E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9A8-6DF8-4B06-82F6-CAA52DA4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A64-688C-4ADE-9065-F2AEA070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547-E0EA-4842-96EC-03B31386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DD9-A88C-44FB-8CBA-195406AF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4AD-FA27-4733-B449-83D3E064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5B8-EB13-4E96-9324-D93CFC74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12D-29AD-485D-87C7-89F7A3B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9CE08-B2D8-4861-8F44-43C47AF762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