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34060"/>
        <c:axId val="38606963"/>
      </c:barChart>
      <c:catAx>
        <c:axId val="78134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6963"/>
        <c:crosses val="autoZero"/>
        <c:auto val="1"/>
        <c:lblAlgn val="ctr"/>
        <c:lblOffset val="100"/>
        <c:noMultiLvlLbl val="0"/>
      </c:catAx>
      <c:valAx>
        <c:axId val="38606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34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F3B-1F4A-4337-8A2A-DEB9DA10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EF1-2F40-4E37-B68B-812343D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4FC-35AD-4413-871F-A68FEB9D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26A-31ED-4A13-9DC8-65128E0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EFC-DE75-4BAB-B8C0-BCA6FD2A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6DC-F161-40E5-A108-BF03B12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14A-BD15-4CF1-BD76-66DBFD7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79F-ABCC-41DC-93DB-6D0A2DC1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5B5-5F92-4B9C-9407-7422163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CDA-C3D5-480C-B835-3C5B30CE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E30-0788-4937-B400-88E84A5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089-6785-471E-A160-963D807B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84A7C-C821-40C5-BF07-ADB7C7AC7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