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99384"/>
        <c:axId val="47580051"/>
      </c:barChart>
      <c:catAx>
        <c:axId val="70993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580051"/>
        <c:crosses val="autoZero"/>
        <c:auto val="1"/>
        <c:lblAlgn val="ctr"/>
        <c:lblOffset val="100"/>
        <c:noMultiLvlLbl val="0"/>
      </c:catAx>
      <c:valAx>
        <c:axId val="475800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993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7235-7495-4AFF-AC14-F17A3A976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69DC-7DB9-4A73-B3CA-784CF18E8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D5BD-0832-4D9B-88A8-AC46E1086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8AF9-E97C-4788-8D78-7C08E7E13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FC18-A8A6-4EDD-8EFC-701A86DF8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5FB9-25A9-4B84-AE01-F19A92CBE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94A3-7A49-4B91-96BB-AC41E2BD5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200E-0A80-472E-BF4E-1F4CE7C4C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21A6-036F-4AFB-A27B-2E7F9D545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C1F5-DCAA-41D7-9BDD-D62FBEAD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4387-16CF-423E-9CF2-8101FD1A1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3D6D-A8D4-40FE-9196-ACEADAC1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01A60A-B371-40CA-A6DA-CD9DC0C5857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