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47945"/>
        <c:axId val="31120773"/>
      </c:barChart>
      <c:catAx>
        <c:axId val="28247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20773"/>
        <c:crosses val="autoZero"/>
        <c:auto val="1"/>
        <c:lblAlgn val="ctr"/>
        <c:lblOffset val="100"/>
        <c:noMultiLvlLbl val="0"/>
      </c:catAx>
      <c:valAx>
        <c:axId val="31120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47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56F-A21C-41B0-96E5-769D6D6E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106-7D7D-4A84-914F-5618E5BB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4DA-B82A-4F95-B1D7-ACF124AD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A19-AC33-4F7D-8294-D7AB927C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2BA-7D35-44CB-BD08-086639E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076-2A8D-4337-8A01-69FDC382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BFA-C988-4F22-B6B3-114BA573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C3F-DAF0-41F0-9691-FCCDEA7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0EB-03BF-4EE6-8124-C4A7885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056-D1A2-4612-A856-EF42CBF6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DEB-8C61-4954-A1BB-CF2688E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B09-AB90-4C96-B2DF-5AD6F0D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BF8FB-D5AE-421A-A950-C461A82EB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