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7008"/>
        <c:axId val="98196688"/>
      </c:barChart>
      <c:catAx>
        <c:axId val="5707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6688"/>
        <c:crosses val="autoZero"/>
        <c:auto val="1"/>
        <c:lblAlgn val="ctr"/>
        <c:lblOffset val="100"/>
        <c:noMultiLvlLbl val="0"/>
      </c:catAx>
      <c:valAx>
        <c:axId val="98196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7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35A-2B0E-48C0-8FE5-E7FDCF99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85D-0BA4-4543-988B-62BB2386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E5C-4070-413B-B76F-98D04CA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0D2-0E2A-448D-8876-279DAD53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450-AEB3-4D2E-9684-A2EBBF9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B33-B0C3-4220-BB4E-6EB0A13A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61E-896F-444B-807B-DB96A3DB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1D3-890A-4E81-B03E-B6578A48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D51-D26E-48B1-9C57-FA8506E6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A46-2DDD-4765-800A-75E0115C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F2B-D7C4-470A-83F7-CCB2F75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23D-1D76-4662-9F8E-1123EB1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7D2D2-C04E-40B1-A733-C786D33A35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