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19516"/>
        <c:axId val="40243382"/>
      </c:barChart>
      <c:catAx>
        <c:axId val="64119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43382"/>
        <c:crosses val="autoZero"/>
        <c:auto val="1"/>
        <c:lblAlgn val="ctr"/>
        <c:lblOffset val="100"/>
        <c:noMultiLvlLbl val="0"/>
      </c:catAx>
      <c:valAx>
        <c:axId val="40243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19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488-98CD-4453-B863-1CBAD4BF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02E-06F2-4D1E-A415-17A8204F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84B-D873-4E05-B61F-3AFE7CBA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66A-A548-471F-82BB-32192A0A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FD8-C882-40F9-A1B5-993A1B2C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F51-7EB4-4F97-9E55-88566E26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8F3-1758-4B38-903E-32E59A10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A3D-1DFF-490B-93C3-C95DFB12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2B2-0457-4BEC-A719-308A4FCB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210-F3F6-4773-BB22-A0129968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E07-64AD-4489-A3E0-762F11CE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D8A-1D3B-4D68-A1C4-E216A516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D94F1-6122-434A-A8A5-5F2EBBD6D4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