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22473"/>
        <c:axId val="29805680"/>
      </c:barChart>
      <c:catAx>
        <c:axId val="32222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05680"/>
        <c:crosses val="autoZero"/>
        <c:auto val="1"/>
        <c:lblAlgn val="ctr"/>
        <c:lblOffset val="100"/>
        <c:noMultiLvlLbl val="0"/>
      </c:catAx>
      <c:valAx>
        <c:axId val="29805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22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A38-6E1E-4DAC-B80A-0F8A8B52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518-1BC5-4AA1-9505-7A53DEB3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651-B9C5-4719-91C3-4AB3DB78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D39-6D14-40EF-A050-7B87520E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75B-697B-4D24-8D6B-3E6EE57A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6E5-CCEF-4BC3-8E55-FAC0DBF3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402-EACA-449F-ADED-497AAA2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207-F015-492E-845E-F21D1B01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019-6F72-430C-A986-9C58B77E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C7D-69D9-48BD-9A22-FC3C4BF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920-F752-49BD-B689-965BEEC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ECD-E8E5-454E-8600-DB426E83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F8E9F-B271-4821-9FE9-109754CF8E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