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67945"/>
        <c:axId val="15561868"/>
      </c:barChart>
      <c:catAx>
        <c:axId val="11167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1868"/>
        <c:crosses val="autoZero"/>
        <c:auto val="1"/>
        <c:lblAlgn val="ctr"/>
        <c:lblOffset val="100"/>
        <c:noMultiLvlLbl val="0"/>
      </c:catAx>
      <c:valAx>
        <c:axId val="15561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67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629-4CE9-42BE-9A30-67D0DD32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770-1320-415A-9D7E-ACBF8408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52F-76D3-4487-AE27-CD81F6A5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D55-AF5E-4179-AE62-7ABB9F5F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53A-71D4-4757-9D3A-BB8F692C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41D-2608-41BC-A4E3-68BB822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238-A80D-499A-84F5-22CB56A0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A2A-330A-4741-88A2-61B0C71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9B8-F9F5-415F-ADA9-983163C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5DF-CAF9-4E2C-A232-EC24141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2C6-BD29-45BA-8868-C4DACCD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90A-3E70-4896-B57A-DA00CAD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0D53-FE29-4163-BC36-2A64272D5A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