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7787"/>
        <c:axId val="51353520"/>
      </c:barChart>
      <c:catAx>
        <c:axId val="8427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53520"/>
        <c:crosses val="autoZero"/>
        <c:auto val="1"/>
        <c:lblAlgn val="ctr"/>
        <c:lblOffset val="100"/>
        <c:noMultiLvlLbl val="0"/>
      </c:catAx>
      <c:valAx>
        <c:axId val="51353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7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02C6-8740-4EA4-A802-6ABEDBF5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9CE-DC5D-4B4D-BBC7-AD2C8BEA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4BF1-8CA7-40E4-A270-4A1AC5F5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127B-D0B2-43BC-9DA8-ABF06BDC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0C9-ADA4-4DBD-B614-494F74C5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1497-FD20-4955-A987-444675AA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9252-A873-4803-8A74-8AC42414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05ED-DD04-4C69-9AD4-FCFD1A11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A293-2752-4ED9-B8B5-55CBB639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0514-4FC8-4FB8-A109-0BF05EE5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E4F3-D2C8-48D5-B4F4-2B170D11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62EF-A626-4928-8F80-9C6C4D60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CCC97-50A3-4C86-92F8-81D5AA60D5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