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81756"/>
        <c:axId val="53891242"/>
      </c:barChart>
      <c:catAx>
        <c:axId val="34781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91242"/>
        <c:crosses val="autoZero"/>
        <c:auto val="1"/>
        <c:lblAlgn val="ctr"/>
        <c:lblOffset val="100"/>
        <c:noMultiLvlLbl val="0"/>
      </c:catAx>
      <c:valAx>
        <c:axId val="53891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81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B89-DB0B-415B-91E0-96467FE2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B08-EEB3-480D-8A89-4947A113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594-4B06-47C2-B034-7666342E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68F-D99C-41A1-B222-9FF7A0A9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23B-84F7-45C9-8276-87C1CA2D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D26-A98C-45DC-A5E6-E4F27B4A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5A4-6F96-4F8D-83D6-BE350849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1CE-860E-4AB9-BD2B-9FE8FC00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D14-FA25-4C32-B0E5-0D71110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E35-0D61-4B5A-8887-E509CD9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89E-60F1-4AB4-A4FD-8575CBC2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B32-9A38-4E81-9A44-AD4B2078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896CD-5996-4FCE-A050-E324A56EB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