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91392"/>
        <c:axId val="55412767"/>
      </c:barChart>
      <c:catAx>
        <c:axId val="844913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12767"/>
        <c:crosses val="autoZero"/>
        <c:auto val="1"/>
        <c:lblAlgn val="ctr"/>
        <c:lblOffset val="100"/>
        <c:noMultiLvlLbl val="0"/>
      </c:catAx>
      <c:valAx>
        <c:axId val="554127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913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98F3-4962-4514-8E27-8B46C809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B76-CFEB-4F83-96AF-BE15C73F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531-950C-4834-AA08-A336ADB1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A999-7BE6-42E4-8C21-14E6457D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5FAD-C0FB-4BE0-AA89-11593561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0F7-B414-40D1-BA96-1A96A473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A3C-991F-46FE-8623-BD82EC57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4990-C813-4B90-8AD1-573C27CA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990-AC1D-4F94-B5D9-FBD55140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F59-EA35-4FCE-8761-FD7FFAB1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0AC2-567C-4D84-A4C8-45BB476F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026E-8DFF-4625-8D30-6A500943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0ADE0-60ED-486D-884D-79A107219B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