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272931"/>
        <c:axId val="45045585"/>
      </c:barChart>
      <c:catAx>
        <c:axId val="592729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45585"/>
        <c:crosses val="autoZero"/>
        <c:auto val="1"/>
        <c:lblAlgn val="ctr"/>
        <c:lblOffset val="100"/>
        <c:noMultiLvlLbl val="0"/>
      </c:catAx>
      <c:valAx>
        <c:axId val="450455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729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53C9-7F63-43AB-A250-37F6C4E6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D083-871E-4A9E-B47E-3E1D299E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1C39-05EE-430E-AFDE-AF3DE579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CE7A-CCEB-428A-A5DD-713F3102C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C3FF-28D3-43EF-9774-E422B0A6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FC2E-D6B6-4B93-A1C3-CC5CFA43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7705-D9F0-4512-8B67-1925C5CC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F400-1452-4D8D-97B7-A9A6397A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610F-EA88-4C8C-AA82-5B4A8526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DB67-38EF-4212-8E14-C0D3761A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E34D-00D0-4B1D-AA78-D092B62B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05B0-3B7B-45EB-ADA9-ADE3443A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AACD3-8A61-487D-BCF2-9BA729B87E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