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80353"/>
        <c:axId val="49188268"/>
      </c:barChart>
      <c:catAx>
        <c:axId val="51580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88268"/>
        <c:crosses val="autoZero"/>
        <c:auto val="1"/>
        <c:lblAlgn val="ctr"/>
        <c:lblOffset val="100"/>
        <c:noMultiLvlLbl val="0"/>
      </c:catAx>
      <c:valAx>
        <c:axId val="49188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0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E97-503B-46FC-8DA8-FC648399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E7B-F95A-4D4D-AF56-BADB5070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43D-678B-4A4C-94DE-4896B618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1F8-197A-4C98-997E-67F4C043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426-0E25-4B9B-A23E-91724F1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08F-79FC-4658-AB4A-EA38E48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55B-7FFB-420E-A248-0FCF393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EA7-52C5-4E48-9C63-CEAA7AE7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2A2-E1E2-41EC-A105-DAA14C0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9DD-D476-4C10-BE78-E2CC79B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5CC-2E64-446F-88B7-3853F8F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C8D-592B-4F01-8F89-7E83BA1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F661-0667-433D-9E08-2558712E0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