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18786"/>
        <c:axId val="98622307"/>
      </c:barChart>
      <c:catAx>
        <c:axId val="205187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22307"/>
        <c:crosses val="autoZero"/>
        <c:auto val="1"/>
        <c:lblAlgn val="ctr"/>
        <c:lblOffset val="100"/>
        <c:noMultiLvlLbl val="0"/>
      </c:catAx>
      <c:valAx>
        <c:axId val="98622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187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3BE-A21A-4507-8776-DCE0F700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BDF-3942-408A-8DDD-8EBDE95D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F67-0678-47B6-BF13-65BC4BA5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D43-510C-4FE6-BB21-D298774A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3BB-8386-4BE7-B89F-4C727DA4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22D-5302-467F-912E-FCF11CFA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C0C-0743-499B-8DD1-F7F2A752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776-4EEA-477A-AEA8-F4BF5E21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322-9724-48A2-826E-5E7EBCF5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55C-95C4-4C83-81F4-466B52B9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34D-9D3E-41FF-9E81-F9E26BC0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9B0-3915-4AB1-B8E8-C99C3DE0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2967E-81BC-4B0A-9F11-373D8A7D44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