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89873"/>
        <c:axId val="26747890"/>
      </c:barChart>
      <c:catAx>
        <c:axId val="28589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47890"/>
        <c:crosses val="autoZero"/>
        <c:auto val="1"/>
        <c:lblAlgn val="ctr"/>
        <c:lblOffset val="100"/>
        <c:noMultiLvlLbl val="0"/>
      </c:catAx>
      <c:valAx>
        <c:axId val="26747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9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8E2-3026-4081-B592-93F44ECD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FF8-D359-45FF-B2D4-38B69348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B63-2F4C-485B-9EF6-6A499B31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47A-BE4C-4605-98C4-AA09B6A1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ABC-D0FC-4D66-8CAF-BB95B56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855-CA93-45DF-8B52-533FAAC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E43-534A-47E5-9F89-E1F16C64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604-1D61-4FE8-94E2-25BB7E1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50A-BD88-41CC-B0E5-D395C47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C19-4D07-45E9-8E07-8578516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BBD-3364-4C89-B394-EE7892F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169-775A-4ED5-A9E9-DDFE0A0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838F-C640-4FD4-9219-CEBDCBFD3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