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5748"/>
        <c:axId val="5142129"/>
      </c:barChart>
      <c:catAx>
        <c:axId val="78495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2129"/>
        <c:crosses val="autoZero"/>
        <c:auto val="1"/>
        <c:lblAlgn val="ctr"/>
        <c:lblOffset val="100"/>
        <c:noMultiLvlLbl val="0"/>
      </c:catAx>
      <c:valAx>
        <c:axId val="5142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5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ED9-EB76-4122-A3B1-1504E3FE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0F2-8262-480A-8262-52653A0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2F1-3E33-49C1-8C92-F13110F2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D06-66FB-4022-A68E-8B572934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0D6-CA81-4C72-A4B3-9EC1888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8B4-D04F-4566-A3B1-A35F4BC3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B99-D8C9-436D-B39E-60D05359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20E-10B0-4340-8FDE-A3F1AFB4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DC7-F592-4029-954B-C211F1D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F31-713B-46C0-A1A6-933C4DF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DEE-C518-4D11-8023-F0D04DC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613B-53AF-425C-8D4C-5FF9785D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CE71-981F-4CA5-9A02-E486BBBEF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