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200906"/>
        <c:axId val="98198908"/>
      </c:barChart>
      <c:catAx>
        <c:axId val="622009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98908"/>
        <c:crosses val="autoZero"/>
        <c:auto val="1"/>
        <c:lblAlgn val="ctr"/>
        <c:lblOffset val="100"/>
        <c:noMultiLvlLbl val="0"/>
      </c:catAx>
      <c:valAx>
        <c:axId val="981989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009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76AD-B6FE-49D0-B6B0-16A4AA141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C44F-44BF-4B7D-AD2F-C7EDADCA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8FE4-4174-49EB-8E29-A1673850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8153-A96D-45B7-BD12-7C6DEBDA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4F04-F11E-42E3-940B-30E8F459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6E7C-C8BE-4768-8CF8-51C58836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46E8-BEE2-4161-A6CF-AE9D6DA9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3C29-6CEC-4822-947B-88974B9D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0FD-5380-41E1-B933-6776482F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2EB6-9CF2-4B5F-BDDE-033F1411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5E2F-E8CE-4D6F-A977-8A5C193C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CC19-E043-4650-992A-819B92AB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4E0E8-65A8-4DC3-9D4E-EA6D132CF5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