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22929"/>
        <c:axId val="87703059"/>
      </c:barChart>
      <c:catAx>
        <c:axId val="22122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03059"/>
        <c:crosses val="autoZero"/>
        <c:auto val="1"/>
        <c:lblAlgn val="ctr"/>
        <c:lblOffset val="100"/>
        <c:noMultiLvlLbl val="0"/>
      </c:catAx>
      <c:valAx>
        <c:axId val="87703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22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535-AA18-4328-94E0-54D38E2A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B73-6B7B-4058-BCEE-82496E84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61F-9539-47C9-ADF3-745093B1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E7A-F27D-4D81-AA49-703E9C64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D5A-75DA-4135-8504-0088BCB2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522-15A9-4BC5-8DA5-31062D38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425-AB0B-4386-A7B5-F22C7E82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AD5-DCD7-4900-970C-0CF846D8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986-6B56-4104-A80F-4138986D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230-880A-45F0-9CB1-78B61C8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8A3-7EA4-45E4-80E4-A835ADCC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73E-A173-4A43-A49E-30F9923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0AA98-3942-4246-BB0E-49C15FE106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