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789160"/>
        <c:axId val="21359688"/>
      </c:barChart>
      <c:catAx>
        <c:axId val="117891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359688"/>
        <c:crosses val="autoZero"/>
        <c:auto val="1"/>
        <c:lblAlgn val="ctr"/>
        <c:lblOffset val="100"/>
        <c:noMultiLvlLbl val="0"/>
      </c:catAx>
      <c:valAx>
        <c:axId val="213596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7891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C804-27C2-4599-9C67-54F59A498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1D03-55C7-4099-AB4E-26ADDDA60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CAB6-DE83-48EA-8A68-9340D051C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016C-B77F-4832-91C5-E1CB77FC4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FFC3-6EC5-477C-8A01-DB7CB8042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2504-12A4-4501-9520-2F549D935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A8CF-FF81-4AE5-A42D-15023B5F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5C41-3202-4375-948B-E5B5D4A42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30B9-8846-4F63-B1B2-E80AE9F98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C2D0-887A-4F1E-98B1-44D28DF2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53B5-450E-4A2C-9987-D3457459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03C6-304B-42D3-893D-D11B8A23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97C789-E715-45A6-9957-043FBC364AD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