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638"/>
        <c:axId val="4434"/>
      </c:barChart>
      <c:catAx>
        <c:axId val="751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"/>
        <c:crosses val="autoZero"/>
        <c:auto val="1"/>
        <c:lblAlgn val="ctr"/>
        <c:lblOffset val="100"/>
        <c:noMultiLvlLbl val="0"/>
      </c:catAx>
      <c:valAx>
        <c:axId val="4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A51-08EF-425B-96BD-BE8678EB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DF8-CA14-4BD0-B92C-0A853AAD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8BC-E855-4081-A479-0280673B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AA9-664C-4852-9F9A-370C01F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3CB-E8BE-431E-A86A-0877DAA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D11-D2DD-4772-8FF6-C945B6D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77C-F9A8-4CB5-99FE-DCB2920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51B-0F2C-4455-B85A-221AAF0A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897-5A0E-4C55-8090-810F1A9E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D15-9605-4E09-A90B-174301D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143-E292-44B9-BD7E-7626329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0E6-7E55-4F9C-BCE2-79FD2FE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A54A-B1EE-4FBB-9DAD-D470230B3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