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0785"/>
        <c:axId val="56314053"/>
      </c:barChart>
      <c:catAx>
        <c:axId val="88790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4053"/>
        <c:crosses val="autoZero"/>
        <c:auto val="1"/>
        <c:lblAlgn val="ctr"/>
        <c:lblOffset val="100"/>
        <c:noMultiLvlLbl val="0"/>
      </c:catAx>
      <c:valAx>
        <c:axId val="56314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0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25C-6619-4512-862B-5CCA0D52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8A9-BD13-46D1-9264-27DB0E19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3CB-1EF7-4CAE-AF6F-690D0A52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1AD-112B-4630-B6C0-1F259378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A10-F046-4427-A7A9-69955240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2E-76A3-4E50-AF60-85CA0760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37E-C1EB-4C10-9F47-9A994B91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391-379C-4829-B1B0-C3B9F6E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4B6-8528-4DF2-87D1-5CE300FB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E2F-902F-4153-84F4-64658A8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C7D-CEBC-4A89-AB01-4761CD5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D07-4EBA-4D15-BFDC-39843058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27C85-CF9D-47F8-98BC-3D2F057237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