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9020735"/>
        <c:axId val="23662835"/>
      </c:barChart>
      <c:catAx>
        <c:axId val="3902073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3662835"/>
        <c:crosses val="autoZero"/>
        <c:auto val="1"/>
        <c:lblAlgn val="ctr"/>
        <c:lblOffset val="100"/>
        <c:noMultiLvlLbl val="0"/>
      </c:catAx>
      <c:valAx>
        <c:axId val="2366283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902073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92D9E-FF4B-47C8-B4DA-2176EDF76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19F36-7CDA-429C-9FBE-E8D1FE5F9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A404F-0FFC-47A3-81E5-D315633CC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23062-88E1-41D7-B885-D3FD532A8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26BE2-47DA-4793-B5C5-789E06BA2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F2838-3D92-4CA2-9225-B9AEA9C54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11A52-2BDB-4E75-BB51-BD8D95751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00397-85BC-4D79-97E5-1B1EF14D9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3C048-9088-4A94-8C7A-332C3C179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1E753-0D65-4B6B-92F9-BB50134B0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DB60D-3CCE-4CB3-A8C6-01431456C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606EA-C125-4DAC-BB4A-A13630CBE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33D307-A729-4E32-BEDD-0DA503C612F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