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27496"/>
        <c:axId val="68694807"/>
      </c:barChart>
      <c:catAx>
        <c:axId val="62227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94807"/>
        <c:crosses val="autoZero"/>
        <c:auto val="1"/>
        <c:lblAlgn val="ctr"/>
        <c:lblOffset val="100"/>
        <c:noMultiLvlLbl val="0"/>
      </c:catAx>
      <c:valAx>
        <c:axId val="68694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7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A10-01E7-4C3C-8486-6A008A28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B11-6E54-4221-8ADF-7EA1692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A2D-13B5-4F2C-A4D5-0114C5A4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F96-6819-4BB8-87B3-B9AF2A33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68D-DFB6-4DD4-BE60-50A42E2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2B5-CD9E-4D52-847D-7D4D30A6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BDE-2B6A-4F56-A6DB-932642A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42A-B6D8-4C13-B69D-ED65B52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0CB-AA31-4EAC-B211-E7EAEB11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AA2-5D9F-4CBA-B1F3-7B6ED51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B09-2E9D-4D7A-BA69-E37FBE9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949-0919-4686-A064-5A157A3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1F803-C963-4A3A-897C-00D0545A2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