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72112"/>
        <c:axId val="43623957"/>
      </c:barChart>
      <c:catAx>
        <c:axId val="40172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23957"/>
        <c:crosses val="autoZero"/>
        <c:auto val="1"/>
        <c:lblAlgn val="ctr"/>
        <c:lblOffset val="100"/>
        <c:noMultiLvlLbl val="0"/>
      </c:catAx>
      <c:valAx>
        <c:axId val="43623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72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961-F1BB-4BFF-B61B-C204797D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A6B-FE5E-4F1E-A2D1-9B397626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316-63B3-49CC-8987-4AACC700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BDA-EEDE-4514-939A-510748F8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100-8F9F-494D-8114-06FD5903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267-4DB6-4F21-9FA5-1FEFE20F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5C3-FE02-4233-9280-F4F636CE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0C9-8E3D-488C-BC20-2B49235B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784-0FB7-42AA-BFBE-1B5BB3AF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B5F-22D1-4CEA-B16A-DC3C19C9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6AC-FC76-4792-B419-705A943E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79DE-2935-4EA7-89AF-46A1D9AC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5E1FE-234F-4789-81CD-CF4B316B09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