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92292"/>
        <c:axId val="6400850"/>
      </c:barChart>
      <c:catAx>
        <c:axId val="85792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0850"/>
        <c:crosses val="autoZero"/>
        <c:auto val="1"/>
        <c:lblAlgn val="ctr"/>
        <c:lblOffset val="100"/>
        <c:noMultiLvlLbl val="0"/>
      </c:catAx>
      <c:valAx>
        <c:axId val="64008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92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D8A9-AE8B-4909-A37C-056EAF54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A13-75B6-4BD6-8803-C96584DB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097E-45B9-407C-9D3D-2EFACCF1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B497-4D06-4D71-A326-C76FC7AE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602-BE27-4004-9E59-A27BBD5B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052-2992-4A2A-BE19-92728016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BF7-7123-48B1-96E9-50EE74C8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29B-7C30-4BFD-9988-4DA86264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65D-0ACB-4D3F-8378-C75DA12B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23D5-1F59-4D61-BB0B-3DAAA09A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E514-D421-423E-9A2A-ED00A06B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2DC8-E0A4-42EF-A0A8-C703FA1F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EFF0A-CFCE-440F-924E-686542160F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