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12348"/>
        <c:axId val="75583522"/>
      </c:barChart>
      <c:catAx>
        <c:axId val="58312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83522"/>
        <c:crosses val="autoZero"/>
        <c:auto val="1"/>
        <c:lblAlgn val="ctr"/>
        <c:lblOffset val="100"/>
        <c:noMultiLvlLbl val="0"/>
      </c:catAx>
      <c:valAx>
        <c:axId val="75583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12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AC3-A39A-46B4-9681-8E42D403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DC3-B893-429E-9A72-A61D4A77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E11-5084-4107-8A9E-F522809F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0D3-4513-44B6-857C-4E7B1090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937-30FC-459E-8DD3-9EBD0F5E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363-7DE5-4AC0-A45C-F2DAD0F0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69A-2143-4B4A-AFA0-603B06A2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F89-00B4-4D87-90EE-63B89A8C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767-EEFF-4D57-97AA-9177B35A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7AC-46DB-41C1-82F6-CA2B26EF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BC0-491A-4B5E-86F4-A50B14A3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2DE-3B7D-4982-8413-C919B1E6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32810-0E30-4472-AEBC-2E65F38BFC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