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21960"/>
        <c:axId val="91306791"/>
      </c:barChart>
      <c:catAx>
        <c:axId val="31921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06791"/>
        <c:crosses val="autoZero"/>
        <c:auto val="1"/>
        <c:lblAlgn val="ctr"/>
        <c:lblOffset val="100"/>
        <c:noMultiLvlLbl val="0"/>
      </c:catAx>
      <c:valAx>
        <c:axId val="91306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21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A05-1DE1-4412-9D54-657C30A0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419-CFB9-46DD-A8D5-1927A1F0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115-E811-4CBC-B4CA-C6505840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878-4659-4092-B341-A575D432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B17-49E5-446C-BE3F-2268AE0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EC8-DBB3-4A61-8C69-79B2053C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98E-66BB-4608-AB79-12E5C2BD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2CA-8E6A-42DD-8794-8B4C1D20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CDE-30E8-4167-8F13-96EB92A9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4D6-40E3-4299-971D-FE60A38B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498-C2E8-43C4-BBFF-0F3EAD6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C52-85AC-4198-9A80-22DB6CE8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34B85-6E99-4CEF-93B3-09A97E4760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