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3986"/>
        <c:axId val="56015102"/>
      </c:barChart>
      <c:catAx>
        <c:axId val="199439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15102"/>
        <c:crosses val="autoZero"/>
        <c:auto val="1"/>
        <c:lblAlgn val="ctr"/>
        <c:lblOffset val="100"/>
        <c:noMultiLvlLbl val="0"/>
      </c:catAx>
      <c:valAx>
        <c:axId val="560151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39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1EB6-04CA-49CF-8E8A-5CB40FD9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730C-E671-428A-A8B2-D4E6E12D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42F-C9E9-45EB-9236-5198787C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8B5E-6C14-4B34-A4DC-AD420D044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A25-C7B2-40B8-9655-51D14DFD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1B36-5F18-455E-9AC6-6F6A90A8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8A77-6CF9-4118-8C23-47EFDA25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0FA-43DF-4A92-A581-18AD4614D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B316-EF23-40F2-AEB7-6F00EC248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948-1044-4E69-8DE8-5A7196D8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79D-4AE4-4497-BB26-B7EB4807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91AB-32F4-4B4E-A27F-38B18E81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02F2E-28D2-4A45-BFCC-260310E4CB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