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340004"/>
        <c:axId val="47050086"/>
      </c:barChart>
      <c:catAx>
        <c:axId val="313400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50086"/>
        <c:crosses val="autoZero"/>
        <c:auto val="1"/>
        <c:lblAlgn val="ctr"/>
        <c:lblOffset val="100"/>
        <c:noMultiLvlLbl val="0"/>
      </c:catAx>
      <c:valAx>
        <c:axId val="47050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00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391-B7AA-4729-9C39-07C9829D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CF8-335C-42BB-BBB9-B29CC87A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A09-5007-40D3-9893-6BB88482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06A-6868-4448-9A65-88EFCF70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0F2-3578-470F-8533-DA025467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834-83B1-4BB4-8953-EE9BC59E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2FC-729C-44DD-85B7-ACE176A0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BE9-8188-469B-9F99-01ADA14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B07-E87F-43A1-984A-30B0ECA6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B72-E587-45A0-94B1-9BDCA39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4E5-C317-4677-9D7E-FCB1DCD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409-9495-43EC-B5B4-B08D496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8342A-5455-408B-A1EA-865A5EE5C4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