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13250"/>
        <c:axId val="65815391"/>
      </c:barChart>
      <c:catAx>
        <c:axId val="76132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15391"/>
        <c:crosses val="autoZero"/>
        <c:auto val="1"/>
        <c:lblAlgn val="ctr"/>
        <c:lblOffset val="100"/>
        <c:noMultiLvlLbl val="0"/>
      </c:catAx>
      <c:valAx>
        <c:axId val="658153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132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DCED-D94F-4CDD-A88B-98F87759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8526-1783-4464-986F-4138BA29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416F-F647-4B25-B5BD-444BAE73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FC3D-4896-4131-939B-BEAD3AFCC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52F2-E4C3-49B0-BC16-FAC3AAA7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7478-ED1A-4BCF-893C-CDD38425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FE31-7836-477F-A2E3-A5E564D9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9BE2-BA69-43F8-B319-CFA711F3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02A1-964B-41D4-98D4-A023E3C5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6C18-6AD0-41FB-8F29-EE3B0842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6D92-A01B-4D42-A51F-CD84CEDB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4FF8-43FB-4150-B788-9D59E5E9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12B58-36F7-41ED-8622-EB4A6536D9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