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88344"/>
        <c:axId val="83096687"/>
      </c:barChart>
      <c:catAx>
        <c:axId val="28588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96687"/>
        <c:crosses val="autoZero"/>
        <c:auto val="1"/>
        <c:lblAlgn val="ctr"/>
        <c:lblOffset val="100"/>
        <c:noMultiLvlLbl val="0"/>
      </c:catAx>
      <c:valAx>
        <c:axId val="83096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8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1E6-BAAF-4CC7-9D0A-256EEC38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F0D-86E2-444C-A642-681A303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E55-940D-47D7-B02A-FA986532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90A-73BB-4B49-AB6C-580029F5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A2F-60BE-4FB6-BAA0-D61AC5E2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940-D855-422B-93C2-3A48CEB5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47F-A1CE-45BD-94D5-C5ECD282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48A-88BE-4119-A827-5C38CCE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B10-6F9A-4468-9048-F0F2B32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71E-882E-4A5A-95EB-A5EADE3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601-488B-429E-90CB-737F44E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E19-1F41-4B76-B231-E5EEBCCB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84BFE-75B9-48CE-A2EA-44D06DF0D5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