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99654"/>
        <c:axId val="46362487"/>
      </c:barChart>
      <c:catAx>
        <c:axId val="56499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62487"/>
        <c:crosses val="autoZero"/>
        <c:auto val="1"/>
        <c:lblAlgn val="ctr"/>
        <c:lblOffset val="100"/>
        <c:noMultiLvlLbl val="0"/>
      </c:catAx>
      <c:valAx>
        <c:axId val="46362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99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935-FD05-4CB7-8425-A04E8BEE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A48-0718-49FA-A36B-BF63B155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E15-EADD-4F54-8D14-88A947D4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A29-F24F-4735-AEF9-0BC6613A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596-9263-4DB7-9D96-CFDF49FD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CAE-DF9A-43B4-9764-D7CA96B1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B10-EEBD-45B1-9DDA-10059636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556-7E8C-4AF7-8903-CEE70968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87A-1803-481F-82FF-A9223400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9D2E-1F85-4CDB-96FD-B5CFD84F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256-8FB6-4C06-B92C-47157837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B7A-B148-4D0B-95DE-48304D6B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86F58-BA33-4132-B93C-826685CD93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