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69884"/>
        <c:axId val="47691689"/>
      </c:barChart>
      <c:catAx>
        <c:axId val="27869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91689"/>
        <c:crosses val="autoZero"/>
        <c:auto val="1"/>
        <c:lblAlgn val="ctr"/>
        <c:lblOffset val="100"/>
        <c:noMultiLvlLbl val="0"/>
      </c:catAx>
      <c:valAx>
        <c:axId val="47691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69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AD1-09A2-49A2-A9CB-B3196A13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6C1-E5BD-4774-8CAD-DE65FA93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A4D-ED6F-46B1-B91D-3922BDDC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584-13CB-4224-8DB4-9E488449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641-6248-4AAD-AA3C-0B7B9EA3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875-870D-482E-9E0E-7EC10C18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654-70FB-4ED3-BF68-4832830B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58C-CDD6-44D4-AF23-3E1B03D1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BA9-A6BC-4A94-8806-9DC82478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372-C891-40FB-B634-11A167BA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E92-A36F-402B-BF9B-B5188F6B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EE9-43FC-49E0-8D00-F0EF5EB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341FC-8A56-44D2-9C9B-6005797636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