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89765"/>
        <c:axId val="69080283"/>
      </c:barChart>
      <c:catAx>
        <c:axId val="97789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80283"/>
        <c:crosses val="autoZero"/>
        <c:auto val="1"/>
        <c:lblAlgn val="ctr"/>
        <c:lblOffset val="100"/>
        <c:noMultiLvlLbl val="0"/>
      </c:catAx>
      <c:valAx>
        <c:axId val="69080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89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91D-35E1-4B8D-B6D4-AD50500B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2DD-9CF6-4F52-B442-925DDE29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395-6FFA-43C4-A34B-7F60448E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EB8F-D1DB-4649-A13D-E284E282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F38-B6A2-40B8-9D8E-83BD4668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8DC-3EDF-4E2A-9200-14F69D63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FF0-CE31-415F-AE8A-525F5A9E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92B9-9B9A-4FBB-A81C-852E5894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273-344C-48DA-82BD-FB18170B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D535-258F-41EA-B45C-AA76EDAC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9D3-E3E3-4E92-96F7-1422E5E8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C94-CBAE-4943-A3CE-99E894C0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62C54-DDCF-4B43-B026-767E350C92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