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854451"/>
        <c:axId val="45799199"/>
      </c:barChart>
      <c:catAx>
        <c:axId val="638544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799199"/>
        <c:crosses val="autoZero"/>
        <c:auto val="1"/>
        <c:lblAlgn val="ctr"/>
        <c:lblOffset val="100"/>
        <c:noMultiLvlLbl val="0"/>
      </c:catAx>
      <c:valAx>
        <c:axId val="457991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544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864A-D2FA-40FF-A5B2-188FAE0A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CFC5-C4FE-4F31-8524-47C11ABE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1515-D16D-4B2B-8D9D-94E3044A6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414E-3C45-437D-85E3-1AA2BA70F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4F38-0B2E-43D0-AE71-EF422940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1E6A-9A2D-4115-BC5F-B8DB5356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FF99-FC8F-4956-BE2A-B95C3AE7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EF54-7416-4CFD-A518-A3165F1C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03D9-F5E5-4A26-BBED-28EBACCA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6CB6-C7FA-44FB-9181-36EED305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1305-F6EF-4E1C-9CB0-4322419A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C95B-9CCC-464C-A1D5-0D914B6D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E2809-D0A4-4F89-85E5-C42FC5BC02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