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37627"/>
        <c:axId val="8630173"/>
      </c:barChart>
      <c:catAx>
        <c:axId val="37337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0173"/>
        <c:crosses val="autoZero"/>
        <c:auto val="1"/>
        <c:lblAlgn val="ctr"/>
        <c:lblOffset val="100"/>
        <c:noMultiLvlLbl val="0"/>
      </c:catAx>
      <c:valAx>
        <c:axId val="8630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37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87D-EB86-4A3A-8A91-00B48325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E58-0E14-4397-8E0F-EC6D4322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36D5-0F0C-4A16-8C0B-22B4EEB0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575-FAE9-48B0-B102-B5A4FCE3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078-89DF-4A9C-9016-B0CF71CA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65A-2AAE-4589-8088-18DAC559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A84-100E-4D53-BCCD-AE1300BE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BDA-A3E7-46C3-A804-2203F486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8197-2EDC-4F35-A9AF-5A7B7C6B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1C41-BA32-48D4-9672-DF527DC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578-B560-45B4-A702-B24EAEBB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514-BB8D-4BEC-AB04-4D275105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F4737-694B-4EA3-A66A-839599C059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