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76665"/>
        <c:axId val="53745950"/>
      </c:barChart>
      <c:catAx>
        <c:axId val="63776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45950"/>
        <c:crosses val="autoZero"/>
        <c:auto val="1"/>
        <c:lblAlgn val="ctr"/>
        <c:lblOffset val="100"/>
        <c:noMultiLvlLbl val="0"/>
      </c:catAx>
      <c:valAx>
        <c:axId val="53745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76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047-F6E5-4AFB-839E-EB1DFA95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E24-5409-429F-9287-984953B6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D08C-2D9B-4FB7-B38F-56D2CC38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20E-1C3A-48D1-B2FD-CE3CA9C3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D525-244A-4ED4-B9C0-197261A0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585-A7E4-46CA-8D88-3A8BCA28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E99-DE26-42FE-B7C2-9F8641A1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6CB9-B867-4FD4-BF76-ACCE6741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980-151F-405C-9477-CEAD0520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7673-B9F0-4785-ABE7-B56F9D84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5A5-8675-4277-97DE-B874A878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821E-58DC-4E1F-8071-74CB62AF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70595-4FED-4256-80C1-98E8017BF7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